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803-BDEB-44ED-98E2-F5BF8E23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4258-C9A1-46FA-B6D3-51B0CBBC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1BD-AC23-4D98-AB75-21300193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F8C-50DA-43F7-B33B-DBECE378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FDA3-767E-4E14-8D34-66671622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A18-2DBB-4691-A70F-0078E288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42D2-657E-401B-955E-C323A182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1C1E-A9FF-45AC-865F-4E12B87C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1B53-7D84-41DA-8E34-0FF8648E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071-9369-4778-9955-FBEB1A76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9461-4DDB-4E2B-8160-3DAB352E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C8D8-238E-413D-99DC-5F629AC1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AA7A-5705-403B-BE07-00077DCFCC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3068640"/>
            <a:ext cx="734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社会主义荣辱观解读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56000" y="5805360"/>
            <a:ext cx="46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以危害祖国为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以服务人民为荣、以背离人民为耻。“民为邦本，本固邦宁”。我们党是立党为公、执政为民的马克思主义执政党。我国是社会主义国家，每一位公民既是国家和社会的主人，又是劳动者和服务者；既享受他人的服务和劳动成果，又为他人提供服务和劳动成果。主人翁的地位要求公民在享受权利的同时，承担服务他人与社会的义务和责任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人民服务，是社会主义道德建设的核心所在。每一个领导干部、每一个共产党员、每一个公民，都要牢固树立人民的观念，时刻牢记和躬行实践党的根本宗旨，把对人民群众真挚、深厚的感情，融化到所从事的工作中去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84360" y="602136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服务人民为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713800" cy="5877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19280" y="5877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服务人民为荣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11280" y="6033960"/>
            <a:ext cx="48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背离人民为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340000" y="595008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背离人民为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以崇尚科学为荣、以愚昧无知为耻。科学的进步是社会进步的巨大源泉，一个国家的现代化，首先必然是科学技术的现代化。世界经济中心的五次转移，无一例外地都是由科学技术中心的转移所带动的。一个崇尚科学的民族，必然是一个不断进步的、充满生机和活力的民族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国越是向前发展，越要高度重视社会科学与自然科学的协调发展，高度重视在全社会广为传播科学知识、科学方法、科学思想、科学精神，进一步形成讲科学、爱科学、学科学、用科学的良好社会风尚。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124000" y="603396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崇尚科学为荣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3700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胡锦涛同志说，在我们的社会主义社会里，是非、善恶、美丑的界限绝对不能混淆，坚持什么、反对什么，倡导什么、抵制什么，都必须旗帜鲜明。要引导广大干部群众特别是青少年树立社会主义荣辱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8000" y="1628640"/>
            <a:ext cx="46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八荣八耻”是非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136000" cy="934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79640" y="60339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崇尚科学为荣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411280" y="6033960"/>
            <a:ext cx="518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愚昧无知为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124000" y="603396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愚昧无知为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以辛勤劳动为荣、以好逸恶劳为耻。劳动光荣，文化长久。劳动既是公民生存的手段，也是公民对社会、对国家应尽的义务。中华民族是勤劳的民族。以辛勤劳动为荣、以好逸恶劳为耻，要求每一个公民要坚持勤奋学习，英勇劳动，扎实工作，兢兢业业地在本职工作岗位上创造一流的工作业绩，为全面建设小康社会，实现中华民族的伟大复兴添砖加瓦、多做贡献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84360" y="5950080"/>
            <a:ext cx="45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辛勤劳动为荣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92360" y="5950080"/>
            <a:ext cx="61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辛勤劳动为荣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195640" y="6033960"/>
            <a:ext cx="46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好逸恶劳为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5877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47640" y="5877000"/>
            <a:ext cx="60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以好逸恶劳为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以团结互助为荣、以损人利己为耻。团结互助是社会主义社会人与人之间关系的基本特征。团结互助出凝聚力、战斗力和创造力。团结互助，就是要把各种力量凝聚起来、组织起来，同心同德地为中国特色社会主义的伟大事业而奋斗。在不同意见面前，要心平气和，求同存异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困难面前，要同舟共济，共渡难关；在荣誉面前，要相互谦让，他人为先；出现了失误和挫折，要勇于内省，敢于承担。要提倡急他人所需，帮他人所难的团结互助精神，人人关心和帮助他人，处处尊重和爱护他人，促进社会安定和事业发展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86421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8496360" cy="5745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050920" y="595008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团结互助为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47640" y="6021360"/>
            <a:ext cx="52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5950080"/>
            <a:ext cx="56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以团结互助为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403280" y="6093000"/>
            <a:ext cx="56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损人利己为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050920" y="5896080"/>
            <a:ext cx="4537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损人利己为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以诚实守信为荣、以见利忘义为耻。一个社会要和谐发展，必须依靠法律和制度来规范，也必须借助道德的力量来引导。而在人类的道德规范体系中，诚信的理念是最重要的基本理念之一。它可以最大限度地减少社会生活中的摩擦，降低社会生活的风险和代价，降低社会运行成本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诚信是立身之本、发展之道。构建和谐社会，个人需要诚信，集体、社会需要诚信，国家更需要诚信。只有人人讲诚信，取信于他人，给他人以信任，形成和谐的人际关系，才能为构建和谐社会奠定坚实的基础。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68360" y="603396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诚实守信为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08000" y="6165720"/>
            <a:ext cx="56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609300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以诚实守信为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79640" y="616572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0" y="5877000"/>
            <a:ext cx="48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见利忘义为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785440" cy="60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484360" y="6033960"/>
            <a:ext cx="53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以见利忘义为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胡锦涛总书记提出“八荣八耻”的社会主义荣辱观，为推进依法治国和以德治国相结合的治国方略，加强社会主义思想道德建设，构建社会主义和谐社会提供了强大思想武器。树立和践行社会主义荣辱观，用社会主义荣辱观统领思想道德建设，必须全面理解和把握“八荣八耻”的深刻内涵和基本要求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以遵纪守法为荣、以违法乱纪为耻。法治和责任理念是现代社会的基本理念。遵纪守法是公民应尽的社会责任和道德义务。遵纪守法，就要树立宪法意识和法制观念，严格遵守宪法和法律；对于共产党员来说，还要树立党章意识和纪律观念，严格遵守党章和党纪。要在全社会营造依法执政、依法治国和依法办事的良好氛围，提高各级领导干部依法执政、依法行政和依法办事的能力 自觉在宪法和法律范围内活动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8893080" cy="5616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124000" y="6021360"/>
            <a:ext cx="56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遵纪守法为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8497800" cy="6048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484360" y="595008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遵纪守法为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785440" cy="6048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979640" y="609300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违法乱纪为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6121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411280" y="6021360"/>
            <a:ext cx="46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违法乱纪为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以艰苦奋斗为荣、以骄奢淫逸为耻。正如胡锦涛总书记所深刻指出的，一个没有艰苦奋斗精神作支撑的民族，是难以自立自强的；一个没有艰苦奋斗精神作支撑的国家，是难以发展进步的；一个没有艰苦奋斗精神作支撑的政党，是难以兴旺发达的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艰难困苦，玉汝于成。”艰苦奋斗是我们民族的传统美德，艰苦奋斗也是我们党的传家宝和政治本色。每一位公民，都要把艰苦奋斗精神体现在工作和生活之中；每一个共产党员，都要牢记我国的基本国情和我们党的庄严使命，树立为党和人民长期艰苦奋斗的思想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63640" y="60339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艰苦奋斗为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340000" y="609300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艰苦奋斗为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63640" y="6033960"/>
            <a:ext cx="56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骄奢淫逸为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——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八荣八耻”，有立有破，旗帜鲜明，不仅体现了中华民族的传统美德，也体现了社会主义的时代精神；不仅体现了社会主义基本道德规范的本质要求，也体现了社会主义价值观的鲜明导向。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08000" y="6021360"/>
            <a:ext cx="60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骄奢淫逸为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热爱祖国、服务人民、崇尚科学、辛勤劳动、团结互助、诚实守信、遵纪守法、艰苦奋斗，这八个方面是一个有机整体，是一条基本道德底线，也是新世纪新阶段的一部社会风尚规范。每一个“荣”都关系到国家的前途和人民的幸福，每一个“耻”都关系到社会的安定和个人的命运。每一个领导干部、每一个共产党员、每一个公民，都要自觉遵循，全面遵循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以热爱祖国为荣、以危害祖国为耻。民族精神的核心是爱国主义，爱国主义是推动我国社会历史前进的巨大力量，是各族人民共同的精神支柱，是激励全国人民团结奋斗的光辉旗帜。每一个领导干部每一个共产党员、每一个公民，都应该牢固树立热爱祖国的观念，坚持祖国利益高于一切，自觉地把个人的前途命运同祖国的前途命运紧密地联系在一起，把对祖国的热爱化作建设中国特色社会主义伟大事业的无穷力量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8360" y="580536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以热爱祖国为荣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04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16000" y="603396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以热爱祖国为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6021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08000" y="603396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以危害祖国为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0:35:4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53:34Z</dcterms:modified>
  <cp:revision>5</cp:revision>
  <dc:subject>主题班会课件(分28大类): http://shop62905894.taobao.com</dc:subject>
  <dc:title>主题班会课件(分28大类): http://shop62905894.taobao.com</dc:title>
</cp:coreProperties>
</file>